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38D-B7B3-4118-BB1A-BAB92B38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C78-C2FE-4AD3-8462-A08DC944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16975-8AE6-4FF7-9E25-69211A2B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246C3-799B-4E08-9337-E93E1D1A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B48FF-4B55-4D4D-810A-69F3E84C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86A8-3E65-4C76-A0DC-68A02E47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C3F57-71BB-4A39-89D7-8B91228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2C0C6-9895-4B14-A9E8-7E253A9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818E3-0ED2-4864-9BB2-AEDA268E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75F6A-D291-4457-ADBA-7D833A08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852F1-A681-4968-B8D9-4FDDA364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37BB2-73A5-4E95-A468-B06024B7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021-2A9E-4F89-8634-CE524C45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705E5-0168-498C-90CA-6702EE8F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58362-9949-451A-BB27-D6A20D9E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30BEA-50B4-4ADA-B5F5-A490441B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1AD10-DD84-494D-A6AF-A5FD7750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9BE1F-316F-4AA0-998A-7284926B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A2D0D-E825-44AA-8C11-9039855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962A4-A506-49EA-B906-249A458B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2BD4D-3A02-4426-AB9F-5A7815E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0DB21-76D9-4EB9-8853-EF902BB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2B8FC-BBCA-427E-9C33-0A3F2118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47D-9FC2-402A-B5B3-CCED9457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F7B1A-F149-46CB-A0D1-1E6253DD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0241A-595F-479E-AB1E-2BD089AF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075B-094B-4F62-B60B-61A5586C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2EB7-0029-4ED1-ABA8-10827103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957C8-64BB-4DBD-A68F-0929521F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B6EFF-725E-4B41-8E57-BCC3712E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080A5-E34F-4C44-A1F5-A9F427BF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E019E-1C54-4722-B6B2-61AD47A8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A0DF4-A949-47F6-8698-93F5FAD7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26317-DB92-47D2-900B-0086CBB5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07F9-071D-4CE3-840C-23429EED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E6F70-966C-419A-8944-EACC26B1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14FD1-F32C-45B9-A5F0-371E4B1C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5124A-BE12-4A96-BE4C-92B42D56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F3BF5-C9D8-4F5D-8324-80C4C060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00B3D-5FB9-4721-AEE5-0637112A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E0D6B-437B-4DFE-AF66-3F93C7E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42359-D142-41B0-9738-6612C963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857CE-F4A6-441C-8407-824CE1E7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64956-9BE5-405C-AFC4-EFB18CF7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B39BA-CBAD-4396-8222-0B9F20D0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3388-659B-4A34-B08E-54C2A6FC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54AD3-D75B-4B1A-A23F-E8827D40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E5DBA-B66F-470B-8D2C-09C71B2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FB969-6E32-40D3-B2C1-090C18F7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DF912-078E-497B-9A00-2B067D95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0A827-9099-4AF2-9DA5-A13005D8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C0354-C9A4-45F1-B7F0-E7768E2A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ACEA5-EC42-49E6-B820-FA56CC9E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89DB1-4173-4FDB-9F23-6BDACD5F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890C8-8EBE-43FB-AD39-514C6B4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CCC4D-6482-4837-ABDD-1F5F492B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3D99-4EF0-4CC8-937B-7A35EFF5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8AC80-F624-46DB-A448-EFF3B2D1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B02AB-F524-4F62-8859-0DA4E23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A44CD-6C92-4051-BBCE-C21A1EC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E2D7F-D0AF-4A87-9126-1813750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61D16-EB43-4490-8333-35110FC4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B1BB6-817E-4DD2-A986-0BC5C5F6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C2002-B0D7-4977-BFC6-9E0367B2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4D0EF-A160-44A5-9A54-D944999E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1EE9F-D371-4973-BBC6-45A9D13B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EED9A-D883-4FE7-9809-05CC2A85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ACE4-85AF-46AA-A800-76726410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F7D1F-8946-4F67-9F44-BF310E36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5B16C-2ACD-4249-BDE4-BCAA2CC9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C608C-81E4-4509-AC61-C058F3FD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0E91F-7EBE-41A7-A9AD-EC38A0A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3C5B8-679D-442C-9782-55B5DFB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DA055-573C-4342-B9CA-485B6143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33D6C-85E0-4680-9A45-0B6F0BA0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7AAD1-1BC2-402F-831E-AA6E5635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272AE-5186-462F-B5DE-B509EC96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C13D7-3315-49D9-9D9D-1705F463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7E68-6E0E-4447-8D1D-725E127A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61217-B8DA-4D88-B5DA-8007C341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2B69A-8E66-40C6-AE3D-1031105B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E14F0-6F1A-44A6-8FA3-92D77F85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B1C99-D30E-4DCA-904C-79BBFD4A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1BCB6-35EC-4334-91FA-6E52DDC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9072B-EA03-43BD-8F86-59D03D1D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6FE90-4096-4AB6-939B-324E94E3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53090-7036-4F7B-BE62-48C25BA8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D5360-D6B8-474D-A6FB-2DB821B5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5F1E4-F03C-4935-9CC3-2F1D22BB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BEE3-1745-4D78-98CE-ABF5CA47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100E3-C015-4D1D-941F-CB1F9C4F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5E292-7C1A-487A-8FC0-56A74F31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18D74-23FC-406E-B8A7-10683E52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A3B57-CDCE-4F2D-AC7C-DEF3666B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75A97-BC99-4056-BBD1-808B41F8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870A2-DE8E-4EAB-901C-6EC75AF4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AB059-2A39-4546-9258-725EB65B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5EB5E-E057-4EB2-9CA8-97FAF45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C33BA-2087-4D86-A042-F62FDFB8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36625-8AB3-42AE-8BF3-8E940962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59E5-0BDC-4555-9262-DA2696C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F12B9-4DAF-42A9-982E-9FE59CDB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F83C9-16B0-4DD8-9C80-E19D88CA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67701-C6FF-4BDF-82D3-3DFF334C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D3717-95B4-41E3-9C62-1D154DDB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FF438-26C1-4C43-B3AC-4F9003A3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857D7-3487-41D8-8D4F-C9BC3F30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E4C88-CAFF-45CD-8E98-60510C25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F8C28-2180-4784-BD77-53541339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EAF10-17A9-4DB7-9A85-E74107B1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53045-2171-455E-9BB7-DE8032CF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02C-F298-48CF-B983-DE91F1FB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9B09-970F-4360-A94F-FE07AB8A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72EE2-D711-4A19-B5F9-9B0750B3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1E1A1-648C-409F-B1A4-1163142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CFC02-2021-44B6-B55C-4E5EB2AC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13838-F8CE-42EB-B757-4509157A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9BB9D-F0B2-47D1-BDF4-5941AF9A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C5830-C171-4402-A39C-737A4727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F34FC-E340-4820-B5AA-B69B582D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E2281-9533-496E-851B-328D4595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3BC6A-4D68-4A9F-AF96-1773986B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64352-3E4C-41E5-9261-075059C2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86F6-07A1-4309-9F98-06291CF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183F2-EB8E-49C1-8971-6312F5C3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4EC87B-BF4F-4170-8F05-B86D5C7D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6BA37-531E-42C1-BBF1-E9352F6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56F46-68D6-4C23-A299-F592DA0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9E783-5140-4B2F-AAEA-CA15B4B6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BB325-39DB-40CD-A8A2-545C9E61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CB8D7-B44E-401D-8073-A04C6D7A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DF6CFF-FEC2-4B67-8091-BA60A0A1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9176F-ADCE-496A-ADFC-C73C05D3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A0FDC8-F1E1-4553-8CED-15840D71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F2CD-6CBD-4598-923B-E5501653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57A4F8-3553-4DCB-8305-29F55680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24E94-96CB-4694-A24F-A7F87C71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50ECC-7ADA-42F3-AA85-3991E558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430CCE-7801-4111-ACD5-3C6047B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3F99D-7369-4466-9232-DE945BE4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BFCE1-FE39-459A-9B83-D3CC3EDB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710F9-8D05-412F-A7B6-FD3039DC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D31EE-318D-4015-967C-954468B6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32033-4553-442E-8C43-3B3A4A7D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F1994-60B4-40DA-A546-48D38997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E8A0-22CD-4A4D-BC1A-C9EEC357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C8126F-6021-49E9-A1C7-658121B5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C8FDC-518E-40C2-B115-9E97A98E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805D9-C365-468C-A2E2-C827EFC5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0F0B6-4D31-4286-81EF-3AF6AE2B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8A4AE-8E0F-4902-A5EB-4C11478C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9A91C-4219-4179-8768-79CE1FB6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266BB-792D-4887-8544-BE4C49DA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EF79D6-2E86-4C1F-B4B9-C27DBD7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ACF33-BDAE-4E60-A785-14271C26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B972B-FC40-4957-BA55-764B74CE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79BC-88FC-4CCB-9D8E-5B5E4A3D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8277F-B006-4F12-820E-BC1C1980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2E28E-ECA1-43B0-B717-B6131914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E135CA-1FB1-4B06-836D-DC6F602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AB13F-4A30-4CAD-95EB-9B74CAF0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990933-2297-4967-A4ED-343726AD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1947E-28F3-44BE-98D1-9C593A0D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653AE-AB4A-437F-B535-11AC1E24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F096F-8937-48B0-AA63-6EE9EE1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15D265-857B-40BD-A002-D5E3BE7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CEFD5-602D-41A6-B358-8946A42B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EC32-E1F9-4C2A-9D9C-A8C216C0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13774-C9EC-4E8C-B407-471EEFAF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0C2466-75C4-4B46-BEAB-C4E57FAC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E65CD-AC3E-41D9-83F4-05B56FBF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73D8-05F4-48DA-9679-AE544151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D48E-6521-4B49-B0BE-DA63680D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26E1-3D0A-443A-AB64-DB5BC753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999D-16D0-4C32-AA41-350A1E2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98D-E1BC-4F71-A75E-1B1E8F4D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6AE2-E3F7-4E53-BF42-BC50EC1F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0A24D-EBA7-420F-9C7B-F2F41BC3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7E11-59F6-444C-9CAB-B30F437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A56A-4CE1-45EA-A9D6-EB899E89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EB450-91BA-454A-9FA9-0B255996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D9EF-DD28-490C-98EE-085472A0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BC4C-F676-4137-B332-4B798711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F0BF-D154-430C-886A-7A3C9AE3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8E55-A0D9-4238-89B7-37821D3C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A73B-F8BD-44D9-935E-FB5AFC0B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221-566E-4029-8032-A173468F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800D4-2AEF-4B93-BCF4-5DB368F3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7181-E2F9-4D74-8D5B-E8C27364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90D3-53B5-423D-BD11-9F834222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DDFC-99F4-4F41-91AC-2D9F0DDB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5D41-7648-474D-92F3-74FFCB0F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E2B2-848D-4B7F-8055-B4012B07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7AB47-9F26-4153-8629-01A6C05E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A621A-0313-4943-A013-6788495D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AFD9-C09B-418C-AF69-5973FB19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AE350-9D3E-497E-A066-02121D91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ECA-A9FF-4839-9692-AB7D3D1D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5121-2720-4789-B6BD-575DBF1F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C92F4-69DF-422F-A7D5-A7DEA93E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781C-9F1E-49A7-A03E-40ED7D7D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4AE20-61C2-4E0B-8346-016B762D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C2CA3-2111-4336-A1B3-A9040510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88886-11BD-4BA1-9C57-82FE76A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5F082-12A0-408D-B20B-D616A800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171C3-AA85-45E8-9F4D-705630F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58610-914E-4068-8E65-4DDB669E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AEBB4-F660-47E8-A12D-574AA212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F0D-A798-43D1-8A39-2DB37270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BA97-CCBB-4B1B-8D85-10842EDD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6B6DF-70E1-4089-94D7-B745623A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05226-F857-4E05-8A80-BBEB703C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1FE07-5E76-45B3-8705-E5B37C17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06AFF-8510-4C64-923A-9744A0E2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EFB9-4CCE-4765-BD5C-EE82B66A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B32B7-2141-45B6-A0E6-C0789D52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DDFD1-1F70-4610-8D5E-2F6D8A8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6505-B130-415C-9683-7CBFDE8B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BDDF-0621-4C42-BBA3-AF5BB7A9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5FE-EF21-4C96-846D-9D70D5EE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EC5ED-AB23-4D3D-8652-5018D9F3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FC0AA-C50A-43ED-88C5-9EBCA15C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74165-C086-4CB5-9BFE-BE2BFE3E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506F8-A4C9-49E3-88CF-D21F8588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37960-D681-41F3-9AD3-4FE1970C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24D93-6C63-4E29-B2A1-6DAB3108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01B26-7EBF-400B-82FF-08A733B1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CEF5D-3852-46AD-BFBE-65FE5CB3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9EB24-3F3C-4AD7-88EC-4F11CB7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6CD30-2020-4B82-926D-4639261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77C-CDAE-4D2B-A9FC-C27AE6BD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BEFB-1FF2-4FFD-BD3A-7CFCB69A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CEC57-87EC-4989-B379-FB640C6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0153-F709-4CE1-8FD6-5F7723AD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0A93-D153-439F-9F76-B5A92C46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345D2-2894-4FDD-BAB6-D4C0C12A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63C7E-8B3F-4225-9373-D6682762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AFA9E-536F-4DDB-8C51-363518F4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626B9-45A8-4A04-BB5D-D27930F4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9D2AC-BE6D-4155-A9E4-58704CEB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38013-B907-46F9-BE33-EC5CCB35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771-AB23-4FD0-8A12-50293A1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BECBD-60CC-40C7-8450-A9C96CA1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B35F9-DA64-4C6B-8F51-18893603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DD52-7E59-4D4D-A65F-9B41C0CF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3FC9E-0CD3-4C58-AC4A-9A572896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F0852-45E4-468C-8C40-F1F6918C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61385-0EF3-4804-9BBE-232B84EE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6CC5C-4803-405A-A7E5-2C34FC14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E556C-37A7-4374-92C7-B77DFC50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A4BB5-F612-4434-830D-4CD6C6C0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D92AC-86A8-4523-AD19-2083A607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586A-9129-41FC-B89B-F9482B0C8C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7271-BC94-438A-9017-C7EC0F17D5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F0C2-C822-467D-80A6-594E91B9CE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FCBE-DD3D-4C41-ACE6-D87BE343B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C352-B96C-4510-896D-FA0BD4D7FE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714E-64E9-4484-A932-96CC943E59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8E64-7E6C-4D52-A898-94B66A86E8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A66D-D634-460C-8A75-9E70368A2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150D-27DF-4D4C-8A17-AC075B57D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E898-79DE-4EF8-8AFF-7AB6D1FB2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A141-7CD7-4B99-B5F4-66CAE5320A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47C4-7B1D-4F6C-9119-9495BFADFE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052B-047A-4A04-A688-9F0085E8FF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62AF-5AB5-47CC-8B72-BBA8D1209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23DD-6B2D-49F9-8B10-2ABF597D7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4429-2011-4FDD-8258-3776F2638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512B-B517-499D-AAD0-DBD9FE05CF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1ED1-6C6B-4A0C-BC2F-269AB1EEE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6D88-BFC8-48EC-A638-476C6E071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02AB-A808-4747-80B9-42EDE393CC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3C02-6BAA-430F-BD1B-F29E69D42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778-A490-4E17-AED6-D944A2646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092A-2CA0-4B6C-ACA6-5415B65F96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3CA0-6988-4D79-BE7B-2EC104763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3AD3-B5A8-4B0C-A82C-D595F93BF3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BB38-041D-4447-B19C-67ED38A1A6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8FB7-065A-4E56-A65D-6F9F34D70C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E70A-43A3-46F4-8F64-72838C58A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9C25-DDE7-42D4-A901-327290733A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FA45-5115-40A1-989E-EA0AC8927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657C-161B-4E0E-9B60-C170BAD370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6A98-AA7F-4AA5-9DA4-DF31FFB1A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0ED0-031D-4F1F-9DB4-4210592F2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B751-8E57-482F-8888-B9BDB1E9C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F20F-1D7E-45DD-90A3-17E4297275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C483-840C-4F91-B6DF-907B05371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4FF0-7E57-44CC-BC44-23A5B9CE97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E1A5-BFB3-4B1D-9963-33FCC9D0AD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02E4-43AA-4255-ACC6-8689FC3824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FC54-46E4-4610-B83C-F602C33E21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95600" y="2276640"/>
            <a:ext cx="3952800" cy="11714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048040" y="3787920"/>
            <a:ext cx="50479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219240" y="1238400"/>
            <a:ext cx="87055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414360" y="1014480"/>
            <a:ext cx="8315280" cy="4829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126684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673520" y="2276640"/>
            <a:ext cx="126684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5997600" y="2276640"/>
            <a:ext cx="126684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7308720" y="2257560"/>
            <a:ext cx="1193760" cy="512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1042920" y="3817800"/>
            <a:ext cx="6697800" cy="513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611280" y="4451400"/>
            <a:ext cx="6697440" cy="512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68360" y="5041800"/>
            <a:ext cx="8064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76120" y="914400"/>
            <a:ext cx="8591760" cy="5029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012000" y="3645000"/>
            <a:ext cx="2160360" cy="431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7265880" y="4869000"/>
            <a:ext cx="1764000" cy="431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476360" y="5473800"/>
            <a:ext cx="17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09480" y="851040"/>
            <a:ext cx="7925040" cy="5457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6948360" y="907920"/>
            <a:ext cx="1656000" cy="432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468360" y="1542960"/>
            <a:ext cx="1655640" cy="432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867280" y="2075040"/>
            <a:ext cx="2089440" cy="5047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5435640" y="2708280"/>
            <a:ext cx="1800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4672080" y="3948120"/>
            <a:ext cx="180000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5435640" y="5172120"/>
            <a:ext cx="180036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8"/>
          <a:stretch/>
        </p:blipFill>
        <p:spPr>
          <a:xfrm>
            <a:off x="1547640" y="5805360"/>
            <a:ext cx="180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1085760" y="826920"/>
            <a:ext cx="6972480" cy="5410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572000" y="161460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4356000" y="2205000"/>
            <a:ext cx="374508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374472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5398920" y="3919680"/>
            <a:ext cx="2845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5398920" y="4581360"/>
            <a:ext cx="3133800" cy="935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4932360" y="5646600"/>
            <a:ext cx="284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81160" y="766800"/>
            <a:ext cx="8581680" cy="5324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879560" y="4437000"/>
            <a:ext cx="276372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835280" y="5084640"/>
            <a:ext cx="2763720" cy="792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148360" y="4465800"/>
            <a:ext cx="2763720" cy="792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5003640" y="5388120"/>
            <a:ext cx="2764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1943280" y="2610000"/>
            <a:ext cx="5257800" cy="1638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3780000" y="280980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262080" y="1000080"/>
            <a:ext cx="8619840" cy="485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7667640" y="2924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7596360" y="4149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7596360" y="532908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552600" y="2795760"/>
            <a:ext cx="8038800" cy="1266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7236000" y="344340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19240" y="4680"/>
            <a:ext cx="8705520" cy="6848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3851280" y="5718240"/>
            <a:ext cx="144144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3851280" y="6335640"/>
            <a:ext cx="1441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1:2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